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4560-9D3A-4220-A291-DA5471FF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35D5-83A5-418E-B8F7-D74DBD3F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D3E6-1F9B-49A7-9E14-0670818E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7904-A88B-47C3-981D-273A0CC9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22CC-5574-48F9-9F49-AC7543C7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2536-823F-492E-B650-ECC4DC40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0485-D5A7-4235-BB07-0C8AF3C8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2C1C-A428-4A90-BA34-AFC29E15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CF24-90EE-428B-8FFF-D9C12F69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56AE-198F-48D1-9BB0-79D29A39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0D75-C66D-4C69-B3B1-A2E8C41A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68A6-74E4-4928-B498-9B258BD6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8C15-C71C-47EA-9BF7-39393B4E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4410-53B5-4E9F-AC48-E0AD8313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40B3-7B74-491F-932C-41CD3AAD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0739-B661-4F09-BBF7-500235EC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8CE4-1702-46A2-826A-B0A6E66F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DD08-9CBA-4406-9C1D-491F0A97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2050-0A34-4D45-8AE3-909C43C2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093A-13BC-4EA7-B547-5F8B7A48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5B19-3579-4208-AE01-D79E597E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B6E2-C3B6-4692-BB6A-36278654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FC9B-94ED-4928-BAF4-D00E6714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BC8A-687C-49FB-93BC-C4021FFC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356D-C372-4F66-8DA0-D3768544D00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329A-25D3-4835-92CD-8AFC86B1F34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236000" y="5589720"/>
            <a:ext cx="172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7-ZIP </a:t>
            </a:r>
            <a:r>
              <a:rPr b="0" lang="zh-TW" sz="20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教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02240" y="60930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Notepad++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教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48680" y="3292560"/>
            <a:ext cx="164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文化大學資管系碩士學分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42760" y="3782160"/>
            <a:ext cx="23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數位教材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(Freeware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教學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36960" y="4522680"/>
            <a:ext cx="12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指導老師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鄒景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36960" y="4954680"/>
            <a:ext cx="12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學生姓名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劉正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183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7-ZIP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教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安裝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5589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回目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6000" y="6056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下一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38400" y="1295280"/>
            <a:ext cx="66672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183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7-ZIP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教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使用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36000" y="5589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回目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38400" y="1295280"/>
            <a:ext cx="66672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226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Notepad++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教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安裝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5589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回目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36000" y="6056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下一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38400" y="1295280"/>
            <a:ext cx="66672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226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Notepad++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教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使用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36000" y="5589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回目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38400" y="1295280"/>
            <a:ext cx="66672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02:31:19Z</dcterms:created>
  <dc:creator>DAXIONG</dc:creator>
  <dc:description/>
  <dc:language>en-US</dc:language>
  <cp:lastModifiedBy>DAXIONG</cp:lastModifiedBy>
  <dcterms:modified xsi:type="dcterms:W3CDTF">2011-01-22T03:21:54Z</dcterms:modified>
  <cp:revision>11</cp:revision>
  <dc:subject/>
  <dc:title>投影片 1</dc:title>
</cp:coreProperties>
</file>